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874-B144-4F91-9317-77D128BE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42E-A965-4F37-A855-C70E1077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015-3A5B-4241-8430-5F507748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66A-7289-45E5-BBFF-57F168B6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B12-EF08-4812-A92A-DFB021DC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D25-A5ED-4718-B591-AAC5B219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EE3-5F25-4E64-8F7B-6DA95769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5CC-125A-4287-AA4D-B38D5A89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818-723A-4675-834A-D4D5A401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859-68D5-4153-BB35-24413C13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F80-9273-4CFF-B3CB-990AA059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7A6-2D72-4C5F-9D62-D1AF54F7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CD36-1E4B-42DC-907D-CFC0498BF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981000"/>
            <a:ext cx="712944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Vivir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to l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ivo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ive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ive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ivimo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iví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iven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981000"/>
            <a:ext cx="712980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 l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you l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he / she / it / you (polite) l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we l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you (plural) l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hey / you (plural, polite) l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33360"/>
            <a:ext cx="78501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parejas, decide cómo se forma el verbo &lt;&lt;vivir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197000"/>
            <a:ext cx="84978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the verb vivir- to li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learn how to describe various types of hous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play battleship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47640" y="1125360"/>
            <a:ext cx="6769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n el nor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n el oeste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   en el es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n el s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48360" y="2349360"/>
            <a:ext cx="0" cy="23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573360"/>
            <a:ext cx="2737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32000" y="264960"/>
            <a:ext cx="655308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333360"/>
            <a:ext cx="77043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Cómo se dice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Bidefo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southwest of England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my Mum, da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terraced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outski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 small tow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836640"/>
            <a:ext cx="40323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Bide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el suroeste de Inglat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 mi madre, mi padre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s tres her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v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una casa aline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las afu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 pueblo pequ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9:50:57Z</dcterms:created>
  <dc:creator>rhawkes</dc:creator>
  <dc:description/>
  <dc:language>en-US</dc:language>
  <cp:lastModifiedBy>Owner1</cp:lastModifiedBy>
  <dcterms:modified xsi:type="dcterms:W3CDTF">2008-11-24T17:26:07Z</dcterms:modified>
  <cp:revision>23</cp:revision>
  <dc:subject/>
  <dc:title>Slide 1</dc:title>
</cp:coreProperties>
</file>